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849-3AE2-46BB-8EEF-75305A4F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518E-E9DD-4E55-A49A-8C4A053F9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AB3-6996-4375-B208-E84E0122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2DF-FD63-463C-BABB-0910DF21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BF4-CBB3-46FE-8749-70C95EA2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0B1-5167-4E84-9D35-696BB544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42C-ECC8-4AFF-80F6-04A75F36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0CD-5BA2-4A9E-88BA-37D1F118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987-2062-4A73-B4F0-45F61F95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138-E44C-4BB9-810B-5191F9A5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9F3-2E1F-4A08-A370-EE5EAD25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65A-126B-485F-8980-DC60DC0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308-2425-470D-AF62-E7589A4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2B6-7F15-4B8F-8A85-A9B3A6CE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0E15-D149-4B39-926A-5E9D9792A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197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0:46:32Z</dcterms:created>
  <dc:creator>Kathy/Brian Whepley</dc:creator>
  <dc:description/>
  <dc:language>en-US</dc:language>
  <cp:lastModifiedBy>Kelly Frederick</cp:lastModifiedBy>
  <dcterms:modified xsi:type="dcterms:W3CDTF">2013-02-08T17:18:44Z</dcterms:modified>
  <cp:revision>2</cp:revision>
  <dc:subject/>
  <dc:title>PowerPoint Presentation</dc:title>
</cp:coreProperties>
</file>